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2825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949-793F-4636-AE07-6626A835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18600"/>
            <a:ext cx="8956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9EA9-DE6B-4FBC-932A-957E4BA0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4370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2440" y="1371240"/>
            <a:ext cx="4370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18600"/>
            <a:ext cx="4370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2440" y="3918600"/>
            <a:ext cx="4370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7C81-FE88-4C02-9DC9-AE7F4637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2883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61480" y="1371240"/>
            <a:ext cx="2883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89440" y="1371240"/>
            <a:ext cx="2883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18600"/>
            <a:ext cx="2883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61480" y="3918600"/>
            <a:ext cx="2883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89440" y="3918600"/>
            <a:ext cx="2883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1F3-440C-40E3-A495-16484694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2DA-EA23-4D23-A55C-50BAAE65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215-8DEA-427A-BEDA-281FC7C1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4370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2440" y="1371240"/>
            <a:ext cx="4370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20A-1D67-490A-8711-E8E0F6CD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CB3-7DC9-497E-8F4F-528C7759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2920" y="228600"/>
            <a:ext cx="841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A65-5EA4-4FF7-978A-A46005B0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4370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2440" y="1371240"/>
            <a:ext cx="4370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18600"/>
            <a:ext cx="4370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122-614A-4797-8E1E-8425040D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4370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2440" y="1371240"/>
            <a:ext cx="4370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2440" y="3918600"/>
            <a:ext cx="4370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9011-EE82-426F-A404-6CB2C0DD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4370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2440" y="1371240"/>
            <a:ext cx="4370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18600"/>
            <a:ext cx="8956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49B-24D3-4EA8-BD48-A9709F33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142640" y="640044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3826-2EDE-40EB-AEBA-EB9798ADC455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895120" y="640044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91160" y="6400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 Moneta / CE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4742F1A-0DA1-4403-B4A7-D1E39F2C2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19320"/>
            <a:ext cx="869328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63de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"/>
          <p:cNvSpPr/>
          <p:nvPr/>
        </p:nvSpPr>
        <p:spPr>
          <a:xfrm>
            <a:off x="1063800" y="6308640"/>
            <a:ext cx="849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558720" y="6308640"/>
            <a:ext cx="432000" cy="4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609040" y="152280"/>
            <a:ext cx="114300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Forum-mathlib@cern.ch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MathLib starting meeting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renzo Mone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RN-P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What already exist ?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ic functions from CLHE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AbsFunction interface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Implement operation on functions ( +, -, *, / ), composition and convolution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IDA Function interf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Pure Abstract interface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Contain some unnecessary methods ( e.g. annotation() )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T Function (TF1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Contain many non-mathematical methods (related to the ROOT framework and graphics)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74CC-E595-4E6E-9EB7-D80E8527676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AFCA9-3224-47A5-8CE0-24FEEE5E245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CLHEP GenericFunction/AbsFunction 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bsFuncti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// Constru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……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// Function value:  N-dimensional functions must override these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rtual unsigned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mensionality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const ;      // returns 1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// Function valu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rtual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erator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(double argument)          const=0;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rtual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erator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(const Argument &amp;argument) const=0;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// Every function must override this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bsFunction *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one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const;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// Function composition.  Do not attempt to override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rtual FunctionComposi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erator 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(const AbsFunction &amp;f) const;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// Derivative, (All functions)  (do not override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rivativ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rivativ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const Variable &amp;v) cons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// Derivative (1D functions only) (do not override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rivativ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me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cons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// Does this function have an analytic derivative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rtual bool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asAnalyticDerivative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const {return false;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// Derivative.  Overriders may be provided, numerical method by default!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rtual Derivativ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rti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unsigned int) const;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476-3550-44C5-8069-08EB61FDE0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B1D98-3112-4151-B4DC-B2E829EE28B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AIDA IFunction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234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re Abstract interfaces to fun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76160" y="1989000"/>
            <a:ext cx="6480360" cy="3986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971-880A-4713-B855-4A4CEDD7A3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4088E-C452-469E-826A-DE821E5AD58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ROOT Function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T TF1 contain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Methods strictly related to a function (from TFormula)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al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NDim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Parameters() and SetParameters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NPar()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ParName()  and SetParName(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Mathematical methods: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rivative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gral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Maximum(), GetMaximumX(), GetMinimum(), GetMinimumX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Range(), SetRange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2D7-03B0-41C2-9F2C-AF74962A8D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77238-708D-4527-91DE-844AEC8619F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TF1 ……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also much more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Quantity tipically related to fit: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2, probability, nd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And plotting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aw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tMaximum(), setMinimum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XAxis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Random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Random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useful things but mainly bound to  RO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functionality better being delegated to helper cla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icult to integrate and use in other tools and framework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ACD-10F1-4F79-BC76-1BD383DF7C1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4D8ED-6BD6-4487-8EE7-9890EC53402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Alternative/complementary approach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al approach ( like in STL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of functors (e.g. boost function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need for user to inherit from a an abstract function cl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be generalized requires heavy use of templ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 using boost::fun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Very flexible, can be used with free functions, class member functions, etc..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4800600"/>
            <a:ext cx="8839080" cy="1160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def boost::function&lt; double( const std::vector&lt;double&gt; &amp; ) &gt; Fun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Minimizer::minimize( Func f,    ….) {  ……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972-F61C-414A-82FD-97783D96A8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651FD-A9EB-45AB-AB6D-286BE9D9542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Next steps… 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 implementing C++ wrapper lay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Start with special functions listed in the C++ standard proposal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ss design for higher C++ lay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Concentrate first on functions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Design function classes (interfaces) 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Look at what already exist  (CLHEP, ROOT, AIDA, GSL++, etc…) for functions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e up with a prototype to perform some evaluation stud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57F-9B3B-47D0-BD8F-6E46053DA37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3589B-65D4-43CA-92D8-3237384DAE3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GSL Evaluation 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ted studies here at CERN evaluating some functions of GSL (performed by Marte Hatl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ied first GSL special function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Compare numerical results with Nag and ROOT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GSL vs ROOT TMath performances 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 studies of random number genera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Look for defects in the generator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 step is studying Integration metho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al is to build a test suite to be run automatically for every new GSL rele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desire to have any part of GSL to be evaluated and tested ?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0D0-E723-4C12-93C4-1DE09F0FAF8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C7F7E-F538-41D5-849C-EB050A5763F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Comic Sans MS"/>
              </a:rPr>
              <a:t>Numerical studies of GSL special functions</a:t>
            </a:r>
            <a:endParaRPr b="0" lang="en-US" sz="32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at the relative difference GSL/Nag and GSL/Ro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 rot="5400000">
            <a:off x="6078600" y="2452320"/>
            <a:ext cx="3076560" cy="457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5400000">
            <a:off x="1026000" y="1183320"/>
            <a:ext cx="3279960" cy="4875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07080" y="5576760"/>
            <a:ext cx="35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e the difference in the sc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7EF-76A0-4D31-B2E2-CC12D5FD9AA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1D2D0-2F2A-4050-BB05-95D89B911BE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Comic Sans MS"/>
              </a:rPr>
              <a:t>Timing Performance of GSL vs ROOT special functions</a:t>
            </a:r>
            <a:endParaRPr b="0" lang="en-US" sz="32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PU time for direct GSL, wrapped GSL and TM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 rot="5400000">
            <a:off x="2362680" y="759240"/>
            <a:ext cx="4876920" cy="731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11B-CEA9-4B14-9AC3-A1AAA734D3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ED82A-763A-4AEA-99B0-44CF70B49E4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Scope and goals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 is to have a discussion forum on numerical  mathematical methods (mathematical librari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ive participation from experts and users of Mathematical libraries from the LHC experiments and any other interested us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Analysis tools developers (e.g. ROOT), …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regular meeting ( every 2-3 weeks) with goals 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Collect requirements from the experiments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Review and discuss current activities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Define future work items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2125-817F-441E-B215-7A27F14F52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759FB-8E3E-4CFB-8B46-00803374EED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Tests of Random number generators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defect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In a selected region (i.e 0&lt; x &lt; 0.1) bin the data in N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Comic Sans MS"/>
              </a:rPr>
              <a:t>bin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Look at difference in  :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Select value of N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Comic Sans MS"/>
              </a:rPr>
              <a:t>bin</a:t>
            </a: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 (frequency) where a peak in </a:t>
            </a:r>
            <a:r>
              <a:rPr b="0" i="1" lang="en-US" sz="2400" spc="-1" strike="noStrike">
                <a:solidFill>
                  <a:srgbClr val="063de8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 is observed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Look in other regions for the same frequency if a pattern is observed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698920" y="2967120"/>
                <a:ext cx="263340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venbin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ddbin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02E4-025E-4E00-BE5D-0614C8202FA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6436C-5D05-463D-A802-CAF5DA9E5C8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Random Number Generator tests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found for Park and Miller generator (gsl_rng_minst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rot="5400000">
            <a:off x="2440800" y="766440"/>
            <a:ext cx="4714920" cy="701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4FF9-B570-4772-9350-EB2D3BF6C71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B09AB-E01D-413A-91B9-326ADCFA8C9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Linear Algebra Studies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veloping a C++ wrapper layer to BLAS/LAP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Matthias will give a presentation at the following meeting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son of various linear algebra packag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Summer student’s study in the context of track fitting (PDF doc)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version and multiplication of small matric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rison of CLHEP, BLAS/LAPACK, GSL and uBL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ot studies performed by E. Offermann and presented at the ROOT SLAC worksh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possible to find general best algebra pack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We should concentrate to use case relevant to us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Ex: track fitting:  operations on small matrices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Large sparse matrices lower priority 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mmend optimal solution according to nee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22A-D556-42C4-ADCB-99AE5D5ECD5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C0EC3-0C0F-4088-A7EF-8DB84190805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Matrix inversion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HEP vs LAPA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CLHEP uses stack allocation for sizes </a:t>
            </a:r>
            <a:r>
              <a:rPr b="0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 6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75348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4938-EB40-4888-9654-FB63D98E8E7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F1716-0032-4E8D-9599-FA64B2525A8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Track fitting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lman filter update of a track state. Measure time in the various step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7389720" cy="4392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217520" y="5715000"/>
            <a:ext cx="228600" cy="533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9680" y="5486400"/>
            <a:ext cx="71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360" y="3625920"/>
            <a:ext cx="112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3840" y="38862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ABC-F341-4CD4-B702-1A71B4D6F09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14581-979C-4F0A-9705-EDF8726F3D4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03120" y="2286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BRUN:Pentium IV 2.4 Ghz 512 Mbytes RAM, IDE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3040" y="781200"/>
            <a:ext cx="8416800" cy="54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0CB0-E464-4592-87A5-1E9FC765A3CF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BBFF0-C43E-404B-A73A-D04E6F04C15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Fitting and Minimization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ment of Minuit C++ almost complete (thanks to Matthias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king also on a fitting and minimization framework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Based on Minuit but with possibility to change Minimizer engine at run time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Fitting interface for Chi2 and Likelihood fits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Should be available in one of the next version of SEAL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Should contain also Python wrapper for interactive usage (based on LCG C++ dictionary)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40A5-B332-4B73-8C0F-020CD3F94F5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A88D4-BC02-4C1A-9741-C30984792C2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Conclusions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 meet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In 3 weeks time ?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le date Tuesday the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y 2004 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3856-3609-4D44-85F7-2E84E2523A1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76B3C-EED3-49BD-8225-7CBFA1DD481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MathLibs Plans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urpose is to provide a coherent Mathematical Library to the end-us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Coordinate the activities with ROOT, bringing the needs of LCG and ROOT together, trying to avoid maintenance and support of various mathematical libraries providing similar functionality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The goal is to share a common mathematical library between ROOT and the rest of LCG activities and experiments.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ajor requirement is to use the same basic Mathematical Library in all environ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Directly in C++ within the experiment reconstruction or simulation programs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During the analysis phases from an interactive environment, using either Python or ROOT/CINT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velopment done in collaboration with the LHC experi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E9AB-C3EA-44E0-B917-E2C6A8E085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4B6C1-9C7C-418F-92C5-C515E3328A4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Initial MathLib working items 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llowing approved SEAL plan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Produce inventory of most common used Mathematical functions and algorithms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Evaluation of GSL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Develop a C++ MathLib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Linear Algebra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Fitting and Minimization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ect a discussion for each i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6DDA-5788-498A-A617-F683F1F8DC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628E2-4747-455A-B750-9002AF8843C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Organizational Issues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ject Milestones (defined in SEAL work plan)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MathLib project Web  (15/7/2004)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First version of C++ MathLib ( 30/9/2004)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to write a detailed technical repor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Lib Web p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Arial"/>
              </a:rPr>
              <a:t>http://seal.web.cern.ch/seal/snapshot/work-packages/mathlibs/index.html</a:t>
            </a:r>
            <a:endParaRPr b="0" lang="en-US" sz="16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Entry point for users (with links to documentation)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and developers with links to meetings presentations, working documents, etc...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Links to code reference documentation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ling list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ff"/>
                </a:solidFill>
                <a:uFillTx/>
                <a:latin typeface="Comic Sans MS"/>
                <a:hlinkClick r:id="rId1"/>
              </a:rPr>
              <a:t>Forum-mathlib@cern.ch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Need for a developer restricted list ?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BDD-ED3E-45C8-964B-6FE23F8249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B584C-0A11-4937-BCDC-5940D1CE730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Comic Sans MS"/>
              </a:rPr>
              <a:t>Inventory of  functions and algorithms</a:t>
            </a:r>
            <a:endParaRPr b="0" lang="en-US" sz="32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b pages with list of common Mathematical Functions needed by the HEP commun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 version available from MathLib Web pag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Arial"/>
              </a:rPr>
              <a:t>http://seal.web.cern.ch/seal/snapshot/work-packages/mathlibs/mathTable.html</a:t>
            </a:r>
            <a:endParaRPr b="0" lang="en-US" sz="18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ing point is  CERNLIB s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good starting point is also list from Walter and Marc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llow GSL organization (main provider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Categorize them according to functionality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 to document each entry and add corresponding re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ect Feedback and commen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EF1C-2ACC-4402-982E-C00477F540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1CB9E-0BCA-4B3F-B6BC-BD22181C8D2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C++ MathLib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 is to have a two layer libr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4360" y="2057400"/>
            <a:ext cx="8024400" cy="4038120"/>
            <a:chOff x="684360" y="2057400"/>
            <a:chExt cx="8024400" cy="4038120"/>
          </a:xfrm>
        </p:grpSpPr>
        <p:sp>
          <p:nvSpPr>
            <p:cNvPr id="60" name=""/>
            <p:cNvSpPr/>
            <p:nvPr/>
          </p:nvSpPr>
          <p:spPr>
            <a:xfrm>
              <a:off x="684360" y="5345640"/>
              <a:ext cx="2479680" cy="749880"/>
            </a:xfrm>
            <a:prstGeom prst="flowChart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S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76320" y="2057400"/>
              <a:ext cx="1822680" cy="63432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10200" y="2057400"/>
              <a:ext cx="2333880" cy="63432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perim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++ 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58360" y="2057400"/>
              <a:ext cx="2167920" cy="63432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yth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06040" y="4134240"/>
              <a:ext cx="5251320" cy="5191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unctional  layer (TMath lik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06040" y="3268800"/>
              <a:ext cx="5251320" cy="8650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ject 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High level C++ classes)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68200" y="3557160"/>
              <a:ext cx="20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thLib C++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98000" y="2691720"/>
              <a:ext cx="0" cy="57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/>
            <p:nvPr/>
          </p:nvCxnSpPr>
          <p:spPr>
            <a:xfrm flipH="1" flipV="1" rot="10800000">
              <a:off x="907920" y="2403000"/>
              <a:ext cx="674280" cy="2019600"/>
            </a:xfrm>
            <a:prstGeom prst="bentConnector3">
              <a:avLst>
                <a:gd name="adj1" fmla="val -29967"/>
              </a:avLst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69" name=""/>
            <p:cNvSpPr/>
            <p:nvPr/>
          </p:nvSpPr>
          <p:spPr>
            <a:xfrm flipH="1">
              <a:off x="6304680" y="2693160"/>
              <a:ext cx="725400" cy="57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143800" y="4653360"/>
              <a:ext cx="363240" cy="69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" name=""/>
            <p:cNvCxnSpPr>
              <a:stCxn id="62" idx="2"/>
              <a:endCxn id="64" idx="3"/>
            </p:cNvCxnSpPr>
            <p:nvPr/>
          </p:nvCxnSpPr>
          <p:spPr>
            <a:xfrm rot="5400000">
              <a:off x="6215760" y="3432600"/>
              <a:ext cx="1702800" cy="220680"/>
            </a:xfrm>
            <a:prstGeom prst="bent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72" name=""/>
            <p:cNvCxnSpPr>
              <a:stCxn id="63" idx="2"/>
              <a:endCxn id="65" idx="0"/>
            </p:cNvCxnSpPr>
            <p:nvPr/>
          </p:nvCxnSpPr>
          <p:spPr>
            <a:xfrm flipH="1">
              <a:off x="4331160" y="2691720"/>
              <a:ext cx="11880" cy="577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73" name=""/>
            <p:cNvSpPr/>
            <p:nvPr/>
          </p:nvSpPr>
          <p:spPr>
            <a:xfrm>
              <a:off x="5937120" y="5288040"/>
              <a:ext cx="2771640" cy="749880"/>
            </a:xfrm>
            <a:prstGeom prst="flowChart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P Librari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HEP, CERNLIB, ROOT,.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36480" y="48373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72480" y="47797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s or inclu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56360" y="5288040"/>
              <a:ext cx="2189160" cy="749880"/>
            </a:xfrm>
            <a:prstGeom prst="flowChart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ear Algebra Lib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LAS, LAPACK,..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"/>
            <p:cNvCxnSpPr/>
            <p:nvPr/>
          </p:nvCxnSpPr>
          <p:spPr>
            <a:xfrm>
              <a:off x="6432840" y="4509000"/>
              <a:ext cx="404640" cy="779400"/>
            </a:xfrm>
            <a:prstGeom prst="bent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78" name=""/>
            <p:cNvSpPr/>
            <p:nvPr/>
          </p:nvSpPr>
          <p:spPr>
            <a:xfrm>
              <a:off x="4550760" y="4653360"/>
              <a:ext cx="0" cy="63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4C74-C8E4-4945-A960-4646DF0951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CC895-D825-438C-865E-ECB1AB19EE9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C++ functional layer 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al C++ wrapper layer to functions and algorithm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special function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Make them free functions in a namespace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user to extend them adding additional fun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Approach adopted by C++ standard committee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SL provides the needed fun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Wrap GSL function in new function name with appropriate namespace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Use name scheme as in C++ standard proposal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n issue is packaging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Copy in GSL code or keep external dependency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1EF-5562-4672-8090-909833D8FFB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D4DB4-4577-4D31-9DA6-C19EE0408A0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C++ function classes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ic functions classes describing parametric functions are probably nee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Function with a state (their parameters)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ous algorithms need functions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Function fitting and minimization,  interpolation, integration, etc…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sistency needs parametric function cla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ic interface for users to plug in easily new functions in the algorith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a common interface with minimal method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value(), get/set parameters(), gradient()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er level analysis tools and frameworks could use this interface and extend it according to their nee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2C8-D338-470B-93C3-17BD685551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94BA8-DCE9-470C-BF50-1AE58B84B64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08:55:46Z</dcterms:created>
  <dc:creator>L. Moneta</dc:creator>
  <dc:description/>
  <dc:language>en-US</dc:language>
  <cp:lastModifiedBy>L. Moneta</cp:lastModifiedBy>
  <cp:lastPrinted>2000-02-23T10:02:30Z</cp:lastPrinted>
  <dcterms:modified xsi:type="dcterms:W3CDTF">2004-04-27T13:33:16Z</dcterms:modified>
  <cp:revision>86</cp:revision>
  <dc:subject/>
  <dc:title>Mathlib kick off mee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alnts1.cern.ch/~mato</vt:lpwstr>
  </property>
  <property fmtid="{D5CDD505-2E9C-101B-9397-08002B2CF9AE}" pid="9" name="LinkColor">
    <vt:r8>16711782</vt:r8>
  </property>
  <property fmtid="{D5CDD505-2E9C-101B-9397-08002B2CF9AE}" pid="10" name="MailAddress">
    <vt:lpwstr>P.Mato@cern.ch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J:\WWW\Lhcb\talks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