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2825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388-5F02-4627-81B7-34F58374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18600"/>
            <a:ext cx="8956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1B1-A29E-496D-AEC1-6F7F878A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244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1860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2440" y="391860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7C5-EBC0-43B0-BE4A-6CD4797B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61480" y="137124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89440" y="137124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1860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61480" y="391860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89440" y="3918600"/>
            <a:ext cx="2883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97F-E5F5-4D48-88F9-DC8892E1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684-D614-4194-B82E-8A3BFCB3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0FA-8F38-406F-945A-C6B69934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370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2440" y="1371240"/>
            <a:ext cx="4370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8E0-F505-421B-B94D-EEFDF513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304-C2F8-4CF0-9692-098191A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920" y="228600"/>
            <a:ext cx="841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2CE-AA09-4BFA-B094-F0957329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2440" y="1371240"/>
            <a:ext cx="4370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1860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604-2344-4780-BCAB-54659556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370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244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2440" y="391860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D92-D65A-46A8-B1B8-B5089575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2440" y="1371240"/>
            <a:ext cx="4370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18600"/>
            <a:ext cx="895644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532-4AF1-4A20-916C-45C4B812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42640" y="640044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6ADD-B1F1-4CB1-A6F5-A0AEC8072BEC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89512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9116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 Moneta / CE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603B4CF-4F15-407E-9703-5440FFA83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19320"/>
            <a:ext cx="869328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"/>
          <p:cNvSpPr/>
          <p:nvPr/>
        </p:nvSpPr>
        <p:spPr>
          <a:xfrm>
            <a:off x="1063800" y="6308640"/>
            <a:ext cx="849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58720" y="6308640"/>
            <a:ext cx="43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609040" y="152280"/>
            <a:ext cx="114300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Forum-mathlib@cern.ch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MathLib starting meeting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renzo Mone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RN-P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What already exist ?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c functions from CLHE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AbsFunction interface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Implement operation on functions ( +, -, *, / ), composition and convolution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DA Function inter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Pure Abstract interface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ontain some unnecessary methods ( e.g. annotation() )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Function (TF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ontain many non-mathematical methods (related to the ROOT framework and graphics)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894-AA39-4600-A548-D7574F79BC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68387-B0FC-40B9-8CE6-EBF18391731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LHEP GenericFunction/AbsFunction 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sFuncti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Constru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…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Function value:  N-dimensional functions must override these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unsigned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mensionality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nst ;      // returns 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Function valu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erator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(double argument)          const=0;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erator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(const Argument &amp;argument) const=0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Every function must override this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bsFunction *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ne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nst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Function composition.  Do not attempt to override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FunctionComposi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erator 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(const AbsFunction &amp;f) const;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Derivative, (All functions)  (do not override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ativ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rivativ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const Variable &amp;v) cons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Derivative (1D functions only) (do not override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rivativ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e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ns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Does this function have an analytic derivative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bool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AnalyticDerivative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nst {return false;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// Derivative.  Overriders may be provided, numerical method by default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rtual Derivativ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ti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signed int) const;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AC6-C559-4398-9D6A-A26428D3FF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71485-A4E9-463C-9D6E-723F9288191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AIDA IFunction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234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re Abstract interfaces to fun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76160" y="1989000"/>
            <a:ext cx="6480360" cy="39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383-82F2-4C10-9294-EEDA6A89B7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C2E65-E38F-48D5-90BE-7943FCF41E1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ROOT Function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TF1 contain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Methods strictly related to a function (from TFormula)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NDim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Parameters() and SetParameters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NPar()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ParName()  and SetParName(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Mathematical methods: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rivative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gral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Maximum(), GetMaximumX(), GetMinimum(), GetMinimumX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Range(), SetRange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83D-F0B0-4752-BAEB-D7D7BF8500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B1F11-CAFB-48D2-BA00-DCF16E5A5AF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TF1 ……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also much more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Quantity tipically related to fit: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2, probability, nd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And plotting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aw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Maximum(), setMinimum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XAxis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Random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Random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useful things but mainly bound to  RO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functionality better being delegated to helper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icult to integrate and use in other tools and framework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031-0F9C-4B1A-BFC7-230D7804B9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71950-F85E-40C4-BCC2-F08653869F4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Alternative/complementary approach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al approach ( like in STL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of functors (e.g. boost function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user to inherit from a an abstract function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be generalized requires heavy use of templ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using boost::fun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Very flexible, can be used with free functions, class member functions, etc..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800600"/>
            <a:ext cx="8839080" cy="116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def boost::function&lt; double( const std::vector&lt;double&gt; &amp; ) &gt; Fun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Minimizer::minimize( Func f,    ….) {  …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762-AEFC-4EC5-A1BF-E84ACA3D5B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51F46-9871-42CD-8626-E97AA6BA0D9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Next steps… 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implementing C++ wrapper lay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Start with special functions listed in the C++ standard proposal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design for higher C++ lay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oncentrate first on function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Design function classes (interfaces) 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Look at what already exist  (CLHEP, ROOT, AIDA, GSL++, etc…) for function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e up with a prototype to perform some evaluation stu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A72-15B8-49AA-BF4B-8BB5721DAE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B0D31-5C06-43BB-AE2E-A202B4D8970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GSL Evaluation 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ted studies here at CERN evaluating some functions of GSL (performed by Marte Hatl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ied first GSL special function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Compare numerical results with Nag and ROOT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GSL vs ROOT TMath performances 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studies of random number gener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Look for defects in the generator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step is studying Integration metho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 is to build a test suite to be run automatically for every new GSL rele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desire to have any part of GSL to be evaluated and tested ?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5BB-104F-4E1C-BD4C-82982573D8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B4F0D-A4A1-4EFF-B7EE-37C4EA82D03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Comic Sans MS"/>
              </a:rPr>
              <a:t>Numerical studies of GSL special functions</a:t>
            </a:r>
            <a:endParaRPr b="0" lang="en-US" sz="32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t the relative difference GSL/Nag and GSL/Ro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5400000">
            <a:off x="6078600" y="2452320"/>
            <a:ext cx="307656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5400000">
            <a:off x="1026000" y="1183320"/>
            <a:ext cx="3279960" cy="4875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07080" y="557676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 the difference in the sc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C19-6459-481F-B601-405692F581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7FC60-F27B-4F14-AA1A-719B092C40C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Comic Sans MS"/>
              </a:rPr>
              <a:t>Timing Performance of GSL vs ROOT special functions</a:t>
            </a:r>
            <a:endParaRPr b="0" lang="en-US" sz="32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PU time for direct GSL, wrapped GSL and TM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5400000">
            <a:off x="2362680" y="759240"/>
            <a:ext cx="4876920" cy="731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689-B345-4089-A852-17D737F27F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87BD0-AACF-4561-934D-48F080D9168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Scope and goal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 is to have a discussion forum on numerical  mathematical methods (mathematical librari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ve participation from experts and users of Mathematical libraries from the LHC experiments and any other interested us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Analysis tools developers (e.g. ROOT), …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regular meeting ( every 2-3 weeks) with goals 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ollect requirements from the experiment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Review and discuss current activities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Define future work item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AE3-504F-417E-B0F6-148B63A9F4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7DF56-93C4-4CC7-9E4A-6CE9E9AB72F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Tests of Random number generator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defect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In a selected region (i.e 0&lt; x &lt; 0.1) bin the data in N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Comic Sans MS"/>
              </a:rPr>
              <a:t>bin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Look at difference in  :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Select value of N</a:t>
            </a:r>
            <a:r>
              <a:rPr b="0" lang="en-US" sz="2400" spc="-1" strike="noStrike" baseline="-25000">
                <a:solidFill>
                  <a:srgbClr val="063de8"/>
                </a:solidFill>
                <a:latin typeface="Comic Sans MS"/>
              </a:rPr>
              <a:t>bin</a:t>
            </a: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 (frequency) where a peak in </a:t>
            </a:r>
            <a:r>
              <a:rPr b="0" i="1" lang="en-US" sz="2400" spc="-1" strike="noStrike">
                <a:solidFill>
                  <a:srgbClr val="063de8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 is observed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Look in other regions for the same frequency if a pattern is observed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698920" y="2967120"/>
                <a:ext cx="263340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venbin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ddbin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8E9-87C7-4B7C-90F2-14A1B7EC97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4993A-4634-4E78-B3B3-991C9FDDCF5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Random Number Generator test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found for Park and Miller generator (gsl_rng_minst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5400000">
            <a:off x="2440800" y="766440"/>
            <a:ext cx="4714920" cy="701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3D2-65C4-4556-8F54-2D3F3BFD3E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BD26F-C72F-41EE-A3FF-996DB6379D0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Linear Algebra Studie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ing a C++ wrapper layer to BLAS/LAP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Matthias will give a presentation at the following meeting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son of various linear algebra packag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Summer student’s study in the context of track fitting (PDF doc)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version and multiplication of small matr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son of CLHEP, BLAS/LAPACK, GSL and uB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 studies performed by E. Offermann and presented at the ROOT SLAC worksh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possible to find general best algebra pack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We should concentrate to use case relevant to us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Ex: track fitting:  operations on small matrices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Large sparse matrices lower priority 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mmend optimal solution according to ne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96C-8165-41D3-927E-745115D85D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56890-3A21-42BB-AA4B-2C71EC3AC3E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Matrix inversion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HEP vs LAPA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LHEP uses stack allocation for sizes </a:t>
            </a:r>
            <a:r>
              <a:rPr b="0" lang="en-US" sz="2400" spc="-1" strike="noStrike">
                <a:solidFill>
                  <a:srgbClr val="063de8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 6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7534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B8A-CC72-4B41-AB56-55411AE517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DDA58-9061-4AB4-9340-B2ADA01472E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Track fitting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lman filter update of a track state. Measure time in the various step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389720" cy="439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17520" y="5715000"/>
            <a:ext cx="228600" cy="533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9680" y="5486400"/>
            <a:ext cx="7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360" y="3625920"/>
            <a:ext cx="112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3840" y="38862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916-D961-4D85-9F2B-8B0D69EFDE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153D4-7CEA-425B-89CC-A9DDAA74474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03120" y="2286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BRUN:Pentium IV 2.4 Ghz 512 Mbytes RAM, IDE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3040" y="781200"/>
            <a:ext cx="8416800" cy="54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F92-815F-4BD4-94ED-42C1C89AF1B0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FE4DA-C01F-408D-9643-58EDBB5EA4F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Fitting and Minimization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 of Minuit C++ almost complete (thanks to Matthia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king also on a fitting and minimization framewor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Based on Minuit but with possibility to change Minimizer engine at run time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Fitting interface for Chi2 and Likelihood fit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Should be available in one of the next version of SEAL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Should contain also Python wrapper for interactive usage (based on LCG C++ dictionary)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9B7-613A-48DA-9A12-4C1C7C1053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05020-4F0F-4863-BF2B-7BF4781A762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onclusion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meet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In 3 weeks time ?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 date Tuesday th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y 2004 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FAE-481C-43A4-BB2E-602957747A9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77B4B-1E13-434E-89CC-AF4D12EF8E7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MathLibs Plan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urpose is to provide a coherent Mathematical Library to the end-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Coordinate the activities with ROOT, bringing the needs of LCG and ROOT together, trying to avoid maintenance and support of various mathematical libraries providing similar functionality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The goal is to share a common mathematical library between ROOT and the rest of LCG activities and experiments.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ajor requirement is to use the same basic Mathematical Library in all environ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Directly in C++ within the experiment reconstruction or simulation programs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During the analysis phases from an interactive environment, using either Python or ROOT/CINT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ment done in collaboration with the LHC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E25-3EFA-44B5-B039-6F09E2A060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AEA93-8B25-4E00-87B8-FFF8B2E249D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Initial MathLib working items 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llowing approved SEAL plan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Produce inventory of most common used Mathematical functions and algorithms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Evaluation of GSL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Develop a C++ MathLib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Linear Algebra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Fitting and Minimization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ct a discussion for each i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8CD-4DD4-4E75-BDAA-291A3BE445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039A8-8D51-4B86-B81F-9EF98D0D3AA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Organizational Issue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ject Milestones (defined in SEAL work plan)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MathLib project Web  (15/7/2004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First version of C++ MathLib ( 30/9/2004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to write a detailed technical repor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Lib Web p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Arial"/>
              </a:rPr>
              <a:t>http://seal.web.cern.ch/seal/snapshot/work-packages/mathlibs/index.html</a:t>
            </a:r>
            <a:endParaRPr b="0" lang="en-US" sz="16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Entry point for users (with links to documentation)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and developers with links to meetings presentations, working documents, etc...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Links to code reference documentation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ling list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ff"/>
                </a:solidFill>
                <a:uFillTx/>
                <a:latin typeface="Comic Sans MS"/>
                <a:hlinkClick r:id="rId1"/>
              </a:rPr>
              <a:t>Forum-mathlib@cern.ch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Need for a developer restricted list ?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505-AE75-4800-B170-3C4861B344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9AE75-601B-41D4-B31A-918DBB6B231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Comic Sans MS"/>
              </a:rPr>
              <a:t>Inventory of  functions and algorithms</a:t>
            </a:r>
            <a:endParaRPr b="0" lang="en-US" sz="32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pages with list of common Mathematical Functions needed by the HEP commun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version available from MathLib Web pag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de8"/>
                </a:solidFill>
                <a:latin typeface="Arial"/>
              </a:rPr>
              <a:t>http://seal.web.cern.ch/seal/snapshot/work-packages/mathlibs/mathTable.html</a:t>
            </a:r>
            <a:endParaRPr b="0" lang="en-US" sz="18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ing point is  CERNLIB s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good starting point is also list from Walter and Marc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llow GSL organization (main provider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Comic Sans MS"/>
              </a:rPr>
              <a:t>Categorize them according to functionality </a:t>
            </a:r>
            <a:endParaRPr b="0" lang="en-US" sz="24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 to document each entry and add corresponding re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ct Feedback and comm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256-08E1-49AF-8715-4BB9E193E1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D7F44-4C9C-42D4-B523-438E3E95616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++ MathLib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 is to have a two layer libr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4360" y="2057400"/>
            <a:ext cx="8024400" cy="4038120"/>
            <a:chOff x="684360" y="2057400"/>
            <a:chExt cx="8024400" cy="4038120"/>
          </a:xfrm>
        </p:grpSpPr>
        <p:sp>
          <p:nvSpPr>
            <p:cNvPr id="60" name=""/>
            <p:cNvSpPr/>
            <p:nvPr/>
          </p:nvSpPr>
          <p:spPr>
            <a:xfrm>
              <a:off x="684360" y="5345640"/>
              <a:ext cx="2479680" cy="74988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S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76320" y="2057400"/>
              <a:ext cx="1822680" cy="63432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10200" y="2057400"/>
              <a:ext cx="2333880" cy="63432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peri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58360" y="2057400"/>
              <a:ext cx="2167920" cy="63432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th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06040" y="4134240"/>
              <a:ext cx="5251320" cy="5191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unctional  layer (TMath lik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06040" y="3268800"/>
              <a:ext cx="5251320" cy="8650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 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High level C++ classes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68200" y="355716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thLib C++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98000" y="2691720"/>
              <a:ext cx="0" cy="57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/>
            <p:nvPr/>
          </p:nvCxnSpPr>
          <p:spPr>
            <a:xfrm flipH="1" flipV="1" rot="10800000">
              <a:off x="907920" y="2403000"/>
              <a:ext cx="674280" cy="2019600"/>
            </a:xfrm>
            <a:prstGeom prst="bentConnector3">
              <a:avLst>
                <a:gd name="adj1" fmla="val -29967"/>
              </a:avLst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69" name=""/>
            <p:cNvSpPr/>
            <p:nvPr/>
          </p:nvSpPr>
          <p:spPr>
            <a:xfrm flipH="1">
              <a:off x="6304680" y="2693160"/>
              <a:ext cx="72540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143800" y="4653360"/>
              <a:ext cx="363240" cy="69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>
              <a:stCxn id="62" idx="2"/>
              <a:endCxn id="64" idx="3"/>
            </p:cNvCxnSpPr>
            <p:nvPr/>
          </p:nvCxnSpPr>
          <p:spPr>
            <a:xfrm rot="5400000">
              <a:off x="6215760" y="3432600"/>
              <a:ext cx="1702800" cy="22068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72" name=""/>
            <p:cNvCxnSpPr>
              <a:stCxn id="63" idx="2"/>
              <a:endCxn id="65" idx="0"/>
            </p:cNvCxnSpPr>
            <p:nvPr/>
          </p:nvCxnSpPr>
          <p:spPr>
            <a:xfrm flipH="1">
              <a:off x="4331160" y="2691720"/>
              <a:ext cx="11880" cy="577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73" name=""/>
            <p:cNvSpPr/>
            <p:nvPr/>
          </p:nvSpPr>
          <p:spPr>
            <a:xfrm>
              <a:off x="5937120" y="5288040"/>
              <a:ext cx="2771640" cy="749880"/>
            </a:xfrm>
            <a:prstGeom prst="flowChart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P Librar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HEP, CERNLIB, ROOT,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36480" y="483732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2480" y="47797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s or inclu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56360" y="5288040"/>
              <a:ext cx="2189160" cy="749880"/>
            </a:xfrm>
            <a:prstGeom prst="flowChart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ear Algebra Li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LAS, LAPACK,..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/>
            <p:nvPr/>
          </p:nvCxnSpPr>
          <p:spPr>
            <a:xfrm>
              <a:off x="6432840" y="4509000"/>
              <a:ext cx="404640" cy="77940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78" name=""/>
            <p:cNvSpPr/>
            <p:nvPr/>
          </p:nvSpPr>
          <p:spPr>
            <a:xfrm>
              <a:off x="4550760" y="4653360"/>
              <a:ext cx="0" cy="63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F6A-1711-4716-919C-764D279BFF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7DE0E-C19B-43E8-9E81-DDF2B797277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++ functional layer 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al C++ wrapper layer to functions and algorith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pecial function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Make them free functions in a namespace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user to extend them adding additional fun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Approach adopted by C++ standard committee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SL provides the needed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Wrap GSL function in new function name with appropriate namespace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Use name scheme as in C++ standard proposal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n issue is packaging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Copy in GSL code or keep external dependency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150-476E-4C1E-8CAD-52BCCB7D89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20894-6446-4587-8809-9A6D3E918E9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920" y="228600"/>
            <a:ext cx="841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Comic Sans MS"/>
              </a:rPr>
              <a:t>C++ function classes</a:t>
            </a:r>
            <a:endParaRPr b="0" lang="en-US" sz="3600" spc="-1" strike="noStrike">
              <a:solidFill>
                <a:srgbClr val="081d58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956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ic functions classes describing parametric functions are probably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Function with a state (their parameters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ous algorithms need functions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Function fitting and minimization,  interpolation, integration, etc…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istency needs parametric function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ic interface for users to plug in easily new functions in the algorith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a common interface with minimal method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Comic Sans MS"/>
              </a:rPr>
              <a:t>value(), get/set parameters(), gradient(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er level analysis tools and frameworks could use this interface and extend it according to their ne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AL Projec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446-894C-45BC-B265-23D8598E9A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DFD50-850C-4D89-B3F6-BC00DCA26A4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8:55:46Z</dcterms:created>
  <dc:creator>L. Moneta</dc:creator>
  <dc:description/>
  <dc:language>en-US</dc:language>
  <cp:lastModifiedBy>L. Moneta</cp:lastModifiedBy>
  <cp:lastPrinted>2000-02-23T10:02:30Z</cp:lastPrinted>
  <dcterms:modified xsi:type="dcterms:W3CDTF">2004-04-27T13:33:16Z</dcterms:modified>
  <cp:revision>86</cp:revision>
  <dc:subject/>
  <dc:title>Mathlib kick off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alnts1.cern.ch/~mato</vt:lpwstr>
  </property>
  <property fmtid="{D5CDD505-2E9C-101B-9397-08002B2CF9AE}" pid="9" name="LinkColor">
    <vt:r8>16711782</vt:r8>
  </property>
  <property fmtid="{D5CDD505-2E9C-101B-9397-08002B2CF9AE}" pid="10" name="MailAddress">
    <vt:lpwstr>P.Mato@cern.ch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J:\WWW\Lhcb\talks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